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72E8-4110-4967-BE9E-BD0B47E5A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7044-1232-4B87-815D-486D33271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0308-1E67-4E05-8ACC-BA4C518B9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D3A2-244B-4E2E-B877-686E5FBDC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6A8D-2CEB-4E08-9D15-DDE20A3AC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0BB5-7DFF-414D-8916-E2A242832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58F3-FE24-49B5-B319-27D804D9A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8CFE-842F-42A1-BAA1-C2100CE68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5D86-2D36-43F0-8A68-A4569DA4B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A2DB-0B43-415D-91FD-159D4A92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29CC-DFE6-4BF0-BC7E-977BE6E6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62C9-275E-43B2-8B2A-2DE918E2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EA088-1885-425D-A989-F0548F7095A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ReqIF 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11:40:36Z</dcterms:created>
  <dc:creator>Michael Jastram</dc:creator>
  <dc:description/>
  <dc:language>en-US</dc:language>
  <cp:lastModifiedBy>Michael Jastram</cp:lastModifiedBy>
  <dcterms:modified xsi:type="dcterms:W3CDTF">2012-10-08T11:41:32Z</dcterms:modified>
  <cp:revision>1</cp:revision>
  <dc:subject/>
  <dc:title>ReqIF Test File</dc:title>
</cp:coreProperties>
</file>